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313758"/>
        <c:axId val="22413511"/>
      </c:barChart>
      <c:catAx>
        <c:axId val="213137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413511"/>
        <c:crosses val="autoZero"/>
        <c:auto val="1"/>
        <c:lblAlgn val="ctr"/>
        <c:lblOffset val="100"/>
        <c:noMultiLvlLbl val="0"/>
      </c:catAx>
      <c:valAx>
        <c:axId val="224135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137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97CB-0E2C-4A37-B09E-2C8863FA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6FE6-8429-4B94-8F10-31F68CD9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01C3-D9D7-48E6-AEE5-577AB24BA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9B5A-9AC6-4297-83AC-730E1F407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D1C6-02F2-4FFA-83EF-DE424805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0164-4193-472E-AFE6-3892E487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6D4D-4EE3-452D-ADD1-21D4E474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7396-E7B1-4111-A084-22C54788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0124-D885-4654-87CE-6C17BC9D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3FBC-BC06-49E8-B341-65C6C8AD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D99B-1E2A-4815-B735-22447932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1707-4592-4C56-ABEE-510BC9AA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A7E84C-D088-4ABF-AB22-9AF9181A1B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