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96188"/>
        <c:axId val="60854743"/>
      </c:barChart>
      <c:catAx>
        <c:axId val="99796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54743"/>
        <c:crosses val="autoZero"/>
        <c:auto val="1"/>
        <c:lblAlgn val="ctr"/>
        <c:lblOffset val="100"/>
        <c:noMultiLvlLbl val="0"/>
      </c:catAx>
      <c:valAx>
        <c:axId val="60854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6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11C-CE12-44E6-ACFD-22A9B0E0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FDD-48E7-4724-A34B-DF8E904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3B9-5D8A-4003-9F5D-BF97C933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BA2-B0AB-45C1-93BF-6C42C22A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25A-2396-4B49-AB93-8D62C36A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032-8DF7-4AEA-81DF-2D26098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557-5277-438E-BC46-0131398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C2E-AC83-4317-AA8F-A8B0489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A57-BDD6-490D-8E44-79DF394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09D-68BE-475E-9FA0-9807DB1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69D-0CBA-4EE4-B9C4-69B6ED0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3BA-81A1-4CB9-B9A8-08F0DC5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1829-5720-4971-9B36-503AE85E3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