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03204"/>
        <c:axId val="62251804"/>
      </c:barChart>
      <c:catAx>
        <c:axId val="17103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51804"/>
        <c:crosses val="autoZero"/>
        <c:auto val="1"/>
        <c:lblAlgn val="ctr"/>
        <c:lblOffset val="100"/>
        <c:noMultiLvlLbl val="0"/>
      </c:catAx>
      <c:valAx>
        <c:axId val="62251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03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D71-5523-40DA-8791-1C58C116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D8F-09D8-43AB-8C51-CF8F0FF1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E5B-E2CD-49C7-865D-275F525D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683-7F47-4825-960A-5D839176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D50-2E80-436B-B42B-204918C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911-7DD4-437E-BCB0-EB623EB4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CFD-DEAA-4DA5-872F-A1A5B6E7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0CE-0764-4454-B7F1-E7F627F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E79-A566-480B-AF27-04F378F3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61B-2733-49FB-B543-A94FE80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787-1078-4792-8974-1B29A79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A7F-3757-43C4-B19B-586AFCF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54DBF-5603-42B2-AEBA-FF8294597E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