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224627"/>
        <c:axId val="39760260"/>
      </c:barChart>
      <c:catAx>
        <c:axId val="42224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760260"/>
        <c:crosses val="autoZero"/>
        <c:auto val="1"/>
        <c:lblAlgn val="ctr"/>
        <c:lblOffset val="100"/>
        <c:noMultiLvlLbl val="0"/>
      </c:catAx>
      <c:valAx>
        <c:axId val="397602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224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4E2-22EB-448F-A6B3-6E8DBA23C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EC2E-C1EA-4494-B73D-2C9286F2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9F23-1DF0-43F5-ABEC-5FE26F9F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9835-08DC-419E-B35D-D4DF4565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D6A3-D405-46EB-83CF-55C280913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8A82-74E8-4CB6-A156-61F05840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9C50-19C1-455E-8817-48FDED70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2E8B-0279-43D3-B6A7-13966142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9932-BEC9-4E65-9DD8-D89B4820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90F2-6341-4909-B013-3F00F8B3A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E4EA-DDB9-4F4E-A246-400C3A2ED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7559-6ED6-4114-A8FC-572C3696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4DB79-D4C2-4F15-AF3A-1829B2037E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