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042196"/>
        <c:axId val="62008875"/>
      </c:barChart>
      <c:catAx>
        <c:axId val="440421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008875"/>
        <c:crosses val="autoZero"/>
        <c:auto val="1"/>
        <c:lblAlgn val="ctr"/>
        <c:lblOffset val="100"/>
        <c:noMultiLvlLbl val="0"/>
      </c:catAx>
      <c:valAx>
        <c:axId val="620088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421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3753-67BD-42D0-87FE-034688F6F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39DD-CB86-4480-B2CA-8CCCE695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93F4-7EEC-4BED-9F3F-11778D758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FB2A-9072-45B5-8929-1DF7D97CA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AABF-F831-4387-8289-D8D02ECB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A1FE-3AB4-4F79-91E8-D71CA2E9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9056-DE76-45BB-878C-AF4D80DF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ECAB-F6F1-4E23-9E34-C3BFC800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860D-A6B1-432A-B8D2-9B6E13D1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9491-4D75-417C-9C8B-3A31FAD0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DE63-2CBE-4DCE-9162-976E3597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E7F7-CB09-4AE8-84DD-CF62E0A6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543B0-3E64-4FD3-9042-CFBA24BD07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