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050026"/>
        <c:axId val="73138956"/>
      </c:barChart>
      <c:catAx>
        <c:axId val="250500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38956"/>
        <c:crosses val="autoZero"/>
        <c:auto val="1"/>
        <c:lblAlgn val="ctr"/>
        <c:lblOffset val="100"/>
        <c:noMultiLvlLbl val="0"/>
      </c:catAx>
      <c:valAx>
        <c:axId val="731389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500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5D74-9BD1-45C2-A874-0C76DA63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2E62-259E-47ED-B61F-AF4F3DC5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FBA0-CD06-4973-867E-F0A4936D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A9F0-DD5F-4E95-8FFD-CD866C7B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1CD3-61C2-4A48-8438-1A3C2899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1ED5-0D81-459B-9645-1DB12AF8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322C-858D-4911-AABF-4D9388D2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A81-8CEE-4D4F-A95F-4264236B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2490-11A3-44B2-A468-C461C525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D1EE-F962-4583-9F96-36CC0857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B8AC-85D9-413A-A895-8C544842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E813-808B-464A-A7C1-EBEA385C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B3BE5-FEF5-4863-91B7-DFF6EF5F23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