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026764"/>
        <c:axId val="84146523"/>
      </c:barChart>
      <c:catAx>
        <c:axId val="520267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146523"/>
        <c:crosses val="autoZero"/>
        <c:auto val="1"/>
        <c:lblAlgn val="ctr"/>
        <c:lblOffset val="100"/>
        <c:noMultiLvlLbl val="0"/>
      </c:catAx>
      <c:valAx>
        <c:axId val="841465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0267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58A7-9696-4B0B-8919-89BF6A99D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7463-C16C-4CA0-9F33-C0A7AA24E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D7E8-6EFE-480A-B908-7B9D1CB4F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8200-95FF-4CD5-9395-5451A062A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C028-6216-45E5-A4C3-3ADC94B16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00AE-539F-4639-9CB4-1C18930C3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F562-2FFF-422C-B7FD-BEF5EF887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5CE8-A6D2-484A-98CB-12BA2CCB2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DBC6-57EC-4237-85B7-CF4B3F72E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1C35-6EEB-438F-ACAA-6B42EE22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8C5A-FBC1-4950-B3D1-C6E23EDF1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BD6D-7773-4C2F-B8F7-FC2A3296F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EF72CE-8941-4671-80DA-288FB9CC035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