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503983"/>
        <c:axId val="96521420"/>
      </c:barChart>
      <c:catAx>
        <c:axId val="985039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521420"/>
        <c:crosses val="autoZero"/>
        <c:auto val="1"/>
        <c:lblAlgn val="ctr"/>
        <c:lblOffset val="100"/>
        <c:noMultiLvlLbl val="0"/>
      </c:catAx>
      <c:valAx>
        <c:axId val="965214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5039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787B-BD12-4ED6-A2E7-CEAE8ACA2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74BB-DA2C-4594-A9E7-AD0B8B67B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3FEF-2F1A-46DA-A273-9FA51609D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0B4A-A26B-4D0C-8CAB-55A90722E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A54E-D0C2-4643-906F-8BA736363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E09F-F389-4091-B5B9-59CECD5E3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2842-0CD7-4C74-A98D-90D78E895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AE48-1D49-4481-8436-0CF541B50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663D-22E3-4EB0-AC11-31F29FD31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4060-59DE-4840-BD67-E9682C7EE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3EBB-06D5-484F-975C-11B21DE7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2514-41ED-475C-86F5-6B98D18A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5FAD18-D52B-4DA7-A9D6-F1DD5B89C33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