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87413"/>
        <c:axId val="38863371"/>
      </c:barChart>
      <c:catAx>
        <c:axId val="4698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3371"/>
        <c:crosses val="autoZero"/>
        <c:auto val="1"/>
        <c:lblAlgn val="ctr"/>
        <c:lblOffset val="100"/>
        <c:noMultiLvlLbl val="0"/>
      </c:catAx>
      <c:valAx>
        <c:axId val="38863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59C-7C65-4EBE-837D-F55579AA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37A-61EB-4974-A2CC-A4B8AF30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DE3-CA7E-47FB-BC54-BEA2F546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457-55DE-44D0-9889-31206CC8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ABB-955D-4525-AE2E-8290221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2AA-B589-48B8-9F18-7E43E795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917-C95A-4E8E-826F-03D627A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623-045C-4BAA-BA75-6063785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9CF-CAD3-49BF-848E-4938147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18B-DE13-4796-9876-0A61BD7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D19-2EEC-462D-AD98-33AC337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E82-7FC3-4C26-8248-AC211F5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983C-B3D8-4528-8090-A43EFC0B6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