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20806"/>
        <c:axId val="46250708"/>
      </c:barChart>
      <c:catAx>
        <c:axId val="32220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0708"/>
        <c:crosses val="autoZero"/>
        <c:auto val="1"/>
        <c:lblAlgn val="ctr"/>
        <c:lblOffset val="100"/>
        <c:noMultiLvlLbl val="0"/>
      </c:catAx>
      <c:valAx>
        <c:axId val="46250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20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4F4-CD3E-4AA7-BD0A-8CF2DEA7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5CB-A6A0-4B0E-A512-8086DB5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327-B48C-4ED8-B8D3-FF5CC95B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AC0-CD0E-4DA4-91D7-1FBCC2C8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503-CFDD-49CA-ACE5-3979ADB5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264-C296-4553-A6F9-9213C5F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B37-381C-448B-80C5-9C3A8A96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9D2-B653-48EB-97B2-49FFA9E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449-5A13-48D3-8304-0C42CC9B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15E-32E5-4BE6-B82B-E2C295FE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9AC-0528-40B2-9CC6-6B59A4B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D6B-3F69-4CC6-8258-B89D73E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DAA59-8A6C-4AE5-92B8-A4872000AE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