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39587"/>
        <c:axId val="66201686"/>
      </c:barChart>
      <c:catAx>
        <c:axId val="393958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01686"/>
        <c:crosses val="autoZero"/>
        <c:auto val="1"/>
        <c:lblAlgn val="ctr"/>
        <c:lblOffset val="100"/>
        <c:noMultiLvlLbl val="0"/>
      </c:catAx>
      <c:valAx>
        <c:axId val="662016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3958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D9C3-4CD3-485E-879D-6E3CD321D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94BE-8768-4E30-952F-ADB16F388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6A2F-3792-4F4A-838A-EB86F2058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136-AAD7-4B1E-9E1D-0E3FC2F17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543-F907-4337-A097-EFC07D250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F6D3-A14D-43B1-8442-52980794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56D-9E63-4285-A18B-0B44239B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48FC-950F-457C-A5D8-37A83D77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AD69-C320-4FB9-8454-CA02166B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797D-D50B-4FE4-9BF8-8FB2A05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2BC4-3512-45B7-AF4B-A672B9A9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1002-7533-4AD6-A7FC-8BECB18CF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B85A0-E6F9-40AF-ABB5-1EEF7B0C2CD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