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05304"/>
        <c:axId val="92916847"/>
      </c:barChart>
      <c:catAx>
        <c:axId val="66705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16847"/>
        <c:crosses val="autoZero"/>
        <c:auto val="1"/>
        <c:lblAlgn val="ctr"/>
        <c:lblOffset val="100"/>
        <c:noMultiLvlLbl val="0"/>
      </c:catAx>
      <c:valAx>
        <c:axId val="92916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05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C93-FAD6-4E3F-8879-4EEAE1E9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52F-A7EC-45C9-8904-5039EF19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7ED-0987-4E32-BA0A-C6CE0CCD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852-671C-483B-892C-A726A426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E09-99EA-47A8-9B39-FC5B024E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AE2-4D2A-4C6D-9B8F-D2DDB1E8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94D-CAD8-4CA4-BC6D-1C2ECFF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58D-95BA-4AFB-B2FE-88A6B387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7B2-8F00-474D-B2D8-B5B43655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BD6-B00D-4F60-838D-35110F44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16A-4C31-4275-98DC-6627887B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1D6-9BFF-4B63-AD01-B32E899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A0710-3D3E-45AE-BEE1-6C3F9B3300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