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18833"/>
        <c:axId val="55342479"/>
      </c:barChart>
      <c:catAx>
        <c:axId val="872188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42479"/>
        <c:crosses val="autoZero"/>
        <c:auto val="1"/>
        <c:lblAlgn val="ctr"/>
        <c:lblOffset val="100"/>
        <c:noMultiLvlLbl val="0"/>
      </c:catAx>
      <c:valAx>
        <c:axId val="55342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188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9279-FC1F-450D-8DCF-2BB86A7E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46B0-48D5-4BA2-B656-325E1684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8B3D-8A85-4CCE-8411-4A729B3D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DB97-7165-4CFB-B24B-BB4A2146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C7F-EA96-4F29-B942-A1820B82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74C-A06D-489B-A5B6-F6878D42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F24-80AA-49D3-AAD0-2D7525E3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E928-4F5D-438E-86A2-EC464E2E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2AB-710A-44BD-9CDA-C8C77A15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9A0-2AC8-40BD-BA3E-BC4F71A8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939-6910-42D0-A1DC-4CE55656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A637-1A02-4325-8CC9-87A33FB1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87B49-910A-4247-8B75-57ADF1E9EF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