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21632"/>
        <c:axId val="6121277"/>
      </c:barChart>
      <c:catAx>
        <c:axId val="54621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1277"/>
        <c:crosses val="autoZero"/>
        <c:auto val="1"/>
        <c:lblAlgn val="ctr"/>
        <c:lblOffset val="100"/>
        <c:noMultiLvlLbl val="0"/>
      </c:catAx>
      <c:valAx>
        <c:axId val="6121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21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98A-6D67-4112-A734-E6CAE7DA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216-6705-4DF3-99A7-BA7E6D3B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49E-168D-42B0-87BC-75786E5B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860-0490-4AB1-99DB-71B9464A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E07-D942-4087-BD05-F910EC9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02A-253E-45A2-9FAF-FD24614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C4D-5064-4F1B-B79C-CBE44D02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616-A53D-4E56-B723-48B7BDCE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7AC-BE6D-451A-95BE-7A15339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199-E20C-470F-8320-725248C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4A9-DDCD-42F8-8C1B-C413B97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77E-69DB-43D0-9794-9E8FFAC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2E3B6-6624-4AD2-9605-B716F7660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