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99695"/>
        <c:axId val="83741050"/>
      </c:barChart>
      <c:catAx>
        <c:axId val="79199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41050"/>
        <c:crosses val="autoZero"/>
        <c:auto val="1"/>
        <c:lblAlgn val="ctr"/>
        <c:lblOffset val="100"/>
        <c:noMultiLvlLbl val="0"/>
      </c:catAx>
      <c:valAx>
        <c:axId val="83741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99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6FE-2328-4B1D-A497-1166B391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96A-FBFC-4156-9E1D-6BE8CE64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58B-40FB-45CD-B1C8-AC4A045E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0F5-B6B9-4F8E-A53A-F0C8F010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309-A84E-4145-9C9E-62B2B9D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374-BF4E-4717-A395-BC0A372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E57-97B2-443D-B776-C80806E3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B97-5646-4ED0-A006-43A3124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967-59DC-439F-A495-143CAD97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470-F3E5-40C7-8416-0045B63F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18C-CD57-4AFC-914A-2C05D48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621-E359-4929-A5E3-22E992CE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E0F54-2A20-4333-91D8-DCE233E91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